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C479-1606-4499-B655-A9FAB133B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D72C-942F-460C-9F02-3823D2B35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7667-8627-4BF7-86EC-817FF1625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33E5-6B5D-4223-B1B4-1721E146F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8429-2953-495D-8F66-47AF6AE62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29E5-6B3F-4E4C-86DC-6BD6D0E22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E750-37E0-4477-B9B5-00B5DADE9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FB44-FB86-4078-B47C-028F6EA7B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44FA-3AD9-4575-AEEB-D088A3CA8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BB76-D3C8-4963-B46D-3CA3FB78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4E4D-1D9C-416B-A865-248E5E49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7FCA-84DA-46E4-924B-BCFF9496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A1483-C1A0-4D02-A4F6-2669848B88A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324000"/>
            <a:ext cx="6808680" cy="85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60280" y="339840"/>
            <a:ext cx="6597720" cy="880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7240" y="0"/>
            <a:ext cx="680076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71832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88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60280" y="250920"/>
            <a:ext cx="6337440" cy="88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33360" y="42840"/>
            <a:ext cx="6191280" cy="905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74532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44360"/>
            <a:ext cx="6669000" cy="882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-19080" y="71280"/>
            <a:ext cx="6877080" cy="889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280" y="0"/>
            <a:ext cx="6715440" cy="88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3360" y="250920"/>
            <a:ext cx="6308640" cy="88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0760" y="0"/>
            <a:ext cx="67564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76280" y="250920"/>
            <a:ext cx="6121440" cy="88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7150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60280" y="179280"/>
            <a:ext cx="6264360" cy="878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2840" y="0"/>
            <a:ext cx="677232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33360" y="144360"/>
            <a:ext cx="6453360" cy="882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0480" y="0"/>
            <a:ext cx="679752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953400" cy="922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58760" y="0"/>
            <a:ext cx="6504120" cy="88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88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343560" cy="88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04640" y="0"/>
            <a:ext cx="643752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60280" y="252360"/>
            <a:ext cx="6193080" cy="889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0080" y="250920"/>
            <a:ext cx="6424560" cy="861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214200" y="-76320"/>
            <a:ext cx="7286400" cy="929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1920" y="0"/>
            <a:ext cx="67960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60280" y="395280"/>
            <a:ext cx="6337440" cy="842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88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22:02:23Z</dcterms:created>
  <dc:creator>Automotriz Toy de Guerrero S de RL de CV</dc:creator>
  <dc:description/>
  <dc:language>en-US</dc:language>
  <cp:lastModifiedBy>lmendoza</cp:lastModifiedBy>
  <dcterms:modified xsi:type="dcterms:W3CDTF">2013-09-27T22:08:49Z</dcterms:modified>
  <cp:revision>6</cp:revision>
  <dc:subject/>
  <dc:title>Diapositiva 1</dc:title>
</cp:coreProperties>
</file>