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E66-ABAD-4F86-B7C6-EBDA7F92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E30-5F7A-4DB6-9674-AC08510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42-37C8-450A-AEE8-A32574A3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173-4E8B-4595-AE2C-FA15CEF3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BBB-FF32-48F0-8E3D-A7D534C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4D3-3A3B-4857-886C-1AD2D2BE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FCA-0A6D-446B-BF69-5ADF2DB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DB2-2775-431D-AD41-A233716D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07F-1087-41E2-B88D-71471788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415-2E7F-45F4-BD42-BBE11E2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629-0DF6-4ED1-931F-7E937338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365-2852-4E6A-A5C6-7412C3C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ECB7-D19B-47F9-8519-54B0721FF8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680868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339840"/>
            <a:ext cx="6597720" cy="88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6800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8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250920"/>
            <a:ext cx="6337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3360" y="42840"/>
            <a:ext cx="6191280" cy="90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45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666900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9080" y="71280"/>
            <a:ext cx="6877080" cy="88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6715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3360" y="250920"/>
            <a:ext cx="63086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0" y="0"/>
            <a:ext cx="6756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6280" y="250920"/>
            <a:ext cx="6121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5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0280" y="179280"/>
            <a:ext cx="6264360" cy="87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840" y="0"/>
            <a:ext cx="6772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3360" y="144360"/>
            <a:ext cx="645336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480" y="0"/>
            <a:ext cx="679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534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8760" y="0"/>
            <a:ext cx="650412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4356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43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0280" y="252360"/>
            <a:ext cx="6193080" cy="88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80" y="250920"/>
            <a:ext cx="642456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14200" y="-76320"/>
            <a:ext cx="72864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920" y="0"/>
            <a:ext cx="679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0280" y="395280"/>
            <a:ext cx="6337440" cy="84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22:02:23Z</dcterms:created>
  <dc:creator>Automotriz Toy de Guerrero S de RL de CV</dc:creator>
  <dc:description/>
  <dc:language>en-US</dc:language>
  <cp:lastModifiedBy>lmendoza</cp:lastModifiedBy>
  <dcterms:modified xsi:type="dcterms:W3CDTF">2013-09-27T22:08:49Z</dcterms:modified>
  <cp:revision>6</cp:revision>
  <dc:subject/>
  <dc:title>Diapositiva 1</dc:title>
</cp:coreProperties>
</file>