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D6A-5683-4672-83B3-07D48D7B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4AE-7140-44CF-B5E8-DB8CB959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EB3-BF9A-4D8B-AB69-F6008D82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738-7919-42D0-8F8A-98EE7C8D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D91-61D5-4A86-8624-AB018CDD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6023-0DCB-4664-8CA5-BD7B6500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323-B80F-4487-B547-2E8F8F5D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765-D564-4027-B8BC-4223E220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D82-8A19-4FAC-A269-5A038E75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1F8-D55C-40E2-9374-5A003E8B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B9F-1B8A-47EF-87C4-92E5D2A1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E30-340D-43F1-B0C8-8E6D8300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B7F7-55A2-4893-9CE2-EC3987E89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70600" cy="81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6:56:38Z</dcterms:created>
  <dc:creator>COMPUTADORA</dc:creator>
  <dc:description/>
  <dc:language>en-US</dc:language>
  <cp:lastModifiedBy>Lucia Mendoza</cp:lastModifiedBy>
  <dcterms:modified xsi:type="dcterms:W3CDTF">2012-03-28T18:38:06Z</dcterms:modified>
  <cp:revision>1</cp:revision>
  <dc:subject/>
  <dc:title>Diapositiva 1</dc:title>
</cp:coreProperties>
</file>