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6A5-FF25-4D7E-9DFD-ED873893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EEB-3BD6-45E2-BFC4-92F63826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6A7E-234A-4E64-B7B9-75D8C1EA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E43-9FD7-4E3B-9854-7EF22C11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1B8-A8FA-42D8-9C13-78C25644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486-DC8D-407C-A39D-62B48115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A4B-A655-4828-A4EA-BF794088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D750-3D6E-44B8-B2E3-030EE802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FECD-C56A-4A88-ACD9-B1409AFE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747F-FCF5-4A7D-BBE6-B4348550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8D0-6E72-4424-B146-6FBD0FA0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EAC-CC54-4F1E-A3A5-2E9AD80D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CBB9-523F-46C8-B5BA-35C544B3C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70600" cy="81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16:56:38Z</dcterms:created>
  <dc:creator>COMPUTADORA</dc:creator>
  <dc:description/>
  <dc:language>en-US</dc:language>
  <cp:lastModifiedBy>Lucia Mendoza</cp:lastModifiedBy>
  <dcterms:modified xsi:type="dcterms:W3CDTF">2012-03-28T18:38:06Z</dcterms:modified>
  <cp:revision>1</cp:revision>
  <dc:subject/>
  <dc:title>Diapositiva 1</dc:title>
</cp:coreProperties>
</file>