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D5C-F354-4F96-B8EC-B08F3405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131-936B-4457-AD37-34804148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941-1A0A-41C9-80DC-6C60D2D2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CE1-C2A3-45C2-8895-D60EBA6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CD3-615B-41D3-8B83-899ACEB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B90-F860-4FFA-BD5A-62490D6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DC2-163E-4D7F-9C75-D88D0CF8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77A-7FBA-4AC1-AD2D-3AF31C4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406-3E03-47E6-98BC-37CA0F68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447-0FB2-4FC3-952C-0C89F40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A06-0212-4902-A374-657C171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602-7B1F-422C-99F8-386D0FF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5857-AEF6-4E06-BEE5-1A0B3FFEB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06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56:38Z</dcterms:created>
  <dc:creator>COMPUTADORA</dc:creator>
  <dc:description/>
  <dc:language>en-US</dc:language>
  <cp:lastModifiedBy>Lucia Mendoza</cp:lastModifiedBy>
  <dcterms:modified xsi:type="dcterms:W3CDTF">2012-03-28T18:38:06Z</dcterms:modified>
  <cp:revision>1</cp:revision>
  <dc:subject/>
  <dc:title>Diapositiva 1</dc:title>
</cp:coreProperties>
</file>