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01C-0B47-4658-B5EB-E0D9A859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E78-8DC7-4D31-954F-026745F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F08-D2A3-47C0-8963-D6EF1AF3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626-B09E-485B-809C-5AD32C38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57B-7FF1-4420-A8F0-773CEAED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979-4D2D-4FDC-8CB5-087548BE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A67-64F2-4064-8CB3-1CF03C4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80A-A8D2-486C-B9D8-8578594B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795-8DD2-46C7-B716-033B0C1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6DC-C76D-4EAD-BCEF-0050DD49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4FD-E15D-41FC-9540-D94715D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F9A-8BCC-49C2-834B-049A221B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834B-AFF7-4BC4-AB08-E7510DDDB2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6808680" cy="85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0280" y="339840"/>
            <a:ext cx="6597720" cy="88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240" y="0"/>
            <a:ext cx="6800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18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0280" y="250920"/>
            <a:ext cx="6337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3360" y="42840"/>
            <a:ext cx="6191280" cy="905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45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666900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9080" y="71280"/>
            <a:ext cx="6877080" cy="88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6715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3360" y="250920"/>
            <a:ext cx="63086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60" y="0"/>
            <a:ext cx="6756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6280" y="250920"/>
            <a:ext cx="6121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15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0280" y="179280"/>
            <a:ext cx="6264360" cy="87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840" y="0"/>
            <a:ext cx="6772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33360" y="144360"/>
            <a:ext cx="645336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480" y="0"/>
            <a:ext cx="679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5340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8760" y="0"/>
            <a:ext cx="650412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4356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4640" y="0"/>
            <a:ext cx="643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0280" y="252360"/>
            <a:ext cx="6193080" cy="88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080" y="250920"/>
            <a:ext cx="642456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14200" y="-76320"/>
            <a:ext cx="728640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920" y="0"/>
            <a:ext cx="679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0280" y="395280"/>
            <a:ext cx="6337440" cy="84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22:02:23Z</dcterms:created>
  <dc:creator>Automotriz Toy de Guerrero S de RL de CV</dc:creator>
  <dc:description/>
  <dc:language>en-US</dc:language>
  <cp:lastModifiedBy>lmendoza</cp:lastModifiedBy>
  <dcterms:modified xsi:type="dcterms:W3CDTF">2013-09-27T22:08:49Z</dcterms:modified>
  <cp:revision>6</cp:revision>
  <dc:subject/>
  <dc:title>Diapositiva 1</dc:title>
</cp:coreProperties>
</file>